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CCA8-152D-46C2-9517-9BF5D5A3F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AA3A-B595-4987-A5C9-174E274E7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D4B4-2961-4FB8-AF20-9AEE1C74B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5C5D-D56C-4A2B-B237-D90971C1D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6B67-BB0A-405B-8361-A09079E2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AA09-80EE-4282-AB22-B5901AB43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6A02-8D0A-45BD-A070-AC8397C75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3DA9-0487-450F-B96C-DAB4347E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AC50-6B56-4C4A-AA92-9C1F74E1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D390-1A2B-45BD-8496-9557F25C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9420-28A1-4988-B592-8ED94F62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00BF-7EC6-43EB-8628-03C065E7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CFBF-3F18-4A72-B424-84AB1AE5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1BCC-0AE5-4186-8934-2471BB8B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2535-A907-405C-8A2D-B65D7C46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331F-833D-407F-888C-6147FF33A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наеста недеља наставе,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09 ТОКСИКОЛОГИЈА – КЛИНИЧКИ, ЕКОЛОШКИ И ЕКСПЕРИМЕНТАЛНИ АСПЕК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ф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лободан Јанков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рек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лазе се у биљци Chrysanthemum cinerariaefoli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иретроиди су синтетски деривати природних пиретрина; постоји тип 1 пиретроида, који су мање токси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и, и тип 2 пиретроида, који су ви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е токси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и, јер имају цијано груп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иретрини су практи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о нетокси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и, јер се после апсорпције јако брзо хидролизују до неактивних метаболи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иретроиди су стабилнији, па испољавају токси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ос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ине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пофилни 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табол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се у јетри, на цитохрому П450, до мање отровних метабол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л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ју се у ур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ханизам дејст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о и ДДТ, отварају канале за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локирају и канале за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лини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 сл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иретроиди тип 2 изазивај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ресте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р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ливац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асцикул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вул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окално делују надр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јно (нпр. на в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њ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ењ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Деконтаминација водом и сапуном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Активни угаљ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ензодиазепин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ЕЕТ – Н,Н-диетил-3-метил бензами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о је репелент за комар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 да се апсорбује преко 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је велики, 2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– 6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јер продире у масно тки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табол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 се на цитохромима јет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л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је се ури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ханизам дејства непозн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ЕЕТ – Н,Н-диетил-3-метил бензами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ази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такс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вул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о дис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ипотенз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филак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главном се тровања јављају код де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контаминација к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тивни уга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азеп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Хербициди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пстанце намењене уни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авању непо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љне вегетације или регулацији неких фаза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вотног циклуса биљака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аракв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4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овања су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та, јер је јефтин и доступан, и има тамно-браон боју, па л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на ко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4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 к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 и из дигестивног тракта се не апсорбује потпуно (&lt;30%), али ипак довољно да изазове тров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4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-2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l/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4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ебно се накупља у бубрезима и пл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 бубрезима, јер се преко њих излу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је (90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 плу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ма, јер га активно преузимају пнеумоци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ип 1 и 2 , тзв.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полиамински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активним транспорт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еханизам деј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з пом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AD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паракват се редукује до моно-катјонске форме; та форма реагује са кисеоником, и редукује га до супероксида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а сама прелази назад у паракват дикатј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вај циклус се непрестано понавља, стварај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све в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 супероксида, који 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је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лије и изазива упа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л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 сл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аго тровање (&lt;10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0% раство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мерено тровање (10-20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0% раство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 тровање (&gt;20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0% раство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во настају корозивне промене на гастроинтестиналном тракту; зати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24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утна тубуларна некр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24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паност, инкоордин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24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утна повреда пл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код т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г тровања; код умереног тровања, п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 пр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ве акутну фазу, после пар недеља код болесника се развија пл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фибр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рганохлорни инсектици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ракват се м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 брзо квалитативно доказати у мокр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редукцијом са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-дитионитом, под алкалним услов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дуковани моно-катјонски паракват је тамно-плаве бо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ењ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инути одело, опрати 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водом и сапу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пирање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лу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тивни уга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емоперфузија у прва 4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са (ако нема хемоперфузије, онда хемодијализ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давати кисеоник, све док не буде неопходно због хипоксије, јер кисеоник погор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ва 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ње пл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икв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 је параквату, али га пнеумоцити не преузима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азива пре свега 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ње бубрега и корозивне промене у гастроинтестиналном трак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се као тровање параква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Глифос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је много токс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, па тровање препаратима глифосата пре свега пот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 од сурфактаната и 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ван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стају корозивне промене гастроинтестиналног тракта, са повр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њем и болом у груд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 д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и до акутног 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ња пл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ипотензија, олигу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ктивни уга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портивне мер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,4-дихло-дифенокси сир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тна киселина (2,4-Д) и други хлорфенокси хербиц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бро се апсорбује орално, а слабо преко 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л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је се не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њен п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те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мокр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½ = 33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с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мета оксидативну фосфорилацију; у Кребсовом циклусу омета синтезу ацетил-ЦоА; омета синтезу ацетилхо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,4-дихло-дифенокси сир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тна киселина (2,4-Д) и други хлорфенокси хербиц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ин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 сл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ол у устима и грлу, једњаку, повр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њ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Хипотензија, тахипнеја, тахикард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ви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на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телесна температур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и знојењ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цидо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нфузија, атакс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нвулзије, ко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ктив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уга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лкалинизација ур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Хемодијали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Глуфосинат и биалаф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љивица из тла Streptomyces hygroscopicus ствара трипептид фосфинотрицин – аланин – аланин (биалафо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иалафос се метабол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 до фосфинотрицина, који је аналог глутамата, и зове се ј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уфоси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уфосинат инхибира глутамин – синтетазу (доводи до накупљања глутамата) и глутамат – декарбоксилазу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ме см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је синтезу ГАБА-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бог ових ефеката делује неуротокс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Глуфосинат и биалаф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мо делим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 се апсорбују после оралне приме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луфосинат се изл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је неизмењен преко бубре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½ = 9.6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с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.4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l/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ци и симптоми п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њу после латентног периода од в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сова (4-8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са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Глуфосинат и биалаф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8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спаност, атаксија, некоњуговани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крети о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их јабу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ц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8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езоријентац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8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ремо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8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8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епресија дисањ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8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нвулзи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8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иликом опоравка мо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 до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 до антероградне  и ретроградне амнезије (као код тровања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љкама које акумулирају домои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у киселину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8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њ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спирање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лу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тивни уга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емодијализа + хемоперфу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иазепам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ти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конвулзиј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стали хербици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трофенолни хербици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45252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инитрофенол и њему сли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 једињења ометају оксидативну фосфорилациј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тразин и други хлоротриаз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133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лабо се апсорбују преко ко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133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бро се апсорбују оралн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133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етаболи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 се преко цитохрома П4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133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злу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ју се путем бубрег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133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зазивају гастроинтестинално крварење, ацидозу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ИК, о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ње бубрега и јетр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33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њ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спирање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луц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стоје 4 групе органохлорних инсектици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хлоро-дифенил-трихлороетан (ДДТ) и анало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иклодиени (алдрин, диелдрин, хептахлор, итд.) и сл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супстанце (токсафен, диенохло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ексахлор-циклохексан (линда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ирекс и хлорде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умиганти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супстанце које могу пре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у гасовито стање, и које користимо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оти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н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врст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то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а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етил бромид (C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4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бро се апсорбује и орално и преко 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4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уротокс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 је; 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је доње коликуле и дентатно једро (сл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 као недостатак витамина Б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периферне нерве и дорзалне гангл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4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тилира SH групе зн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јних енз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етил бромид (C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 сл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дисање доводи до губитка свести, конвулзиј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аритм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 је акутно 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ње плу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вр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ње, поспаност, конфузија, дисартрија, диплопија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рем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ј распол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такс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ем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асцикул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иоклон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к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могу настати плик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ро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изл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ност метил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ромиду изазива 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ње јетре и бубре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ње: деконтаминација, актив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угаљ и диазеп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ихилоропроп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ристи се као фумигант земљ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вањ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цр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ров улази путем инхал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мптоми 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нац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ахикардија, тахипнеја, хипотенз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нојењ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кутна повреда плу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цидо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бдомиоли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Хипергликем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њ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спирање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луц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ктивни уга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Фосфи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6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сфиди (Z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AlP) се праве у виду таблета, које у контакту са водом ослоб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ју отровни гас фосфин (P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6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халација фосфина изазива одмах промене, док после ингестије фосфида симптоми п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њу за 30 мину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6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сфин блокира цитохром-ц оксидазу и ствара слободне радикале, који вр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 липидну пероксидаци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Фосфи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ин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 сли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вр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ње и бол у трбух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испнеја, к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кутно о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ње плу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ахикардија, хипотензија, аритми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нвулзије, кома, делирију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њ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спрати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лудац (П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ња! Садр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ј одмах уклонити, јер фосфин мо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 и даље да се ослоб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 из фосфида и отрује медицинске раднике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дати натријум-бикарбонат у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лудац, јер неутрали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 киселину и смањује стварање фосфина из фосфи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улфурил флуори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7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исти се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ти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термит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7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ханизам токс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г дејства непозн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7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овање л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на тровање метил-броми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7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води и до хипокалцемије, јер флуор везује јон калциј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7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то треба пратити ниво калцијума у серуму, и л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ти агресивно хипокалцеми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Хексахлоробензе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Користи се као фунгицид за заштиту се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Описана је хронична токсичност, после дуготрајне исхране семеном које је њиме заштићен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Описано је тровање код сељака у Турској, који су јели хлеб од брашна добијеног млевењем пшенице заштићене хексахлоробензен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Ометао је синтезу хемоглобина, па су се накупљали порфири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Клиничка слика – као код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phiria cutanea tarda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: урин црвене боје, буле по кожи после излагања сунцу, ожиљци на кожи и појава маљавости, увећање јетре, смањење мишићне масе, појава артритиса, губитак апети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Метаболише се тако што се оксидише и дехлоринизу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84060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Формула и канцерогеност хексахлоробензе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28560" y="2225520"/>
            <a:ext cx="3897360" cy="27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оред порфирије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хексахлоробензен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може после вишегодишњег уношења у организам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а изазове карцином ћелија јетре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5888160" y="2867040"/>
            <a:ext cx="2066760" cy="218592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/>
          <p:cNvSpPr/>
          <p:nvPr/>
        </p:nvSpPr>
        <p:spPr>
          <a:xfrm>
            <a:off x="860400" y="5364000"/>
            <a:ext cx="645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Seldén A, Jacobson G, Berg P, Axelson O. Hepatocellular carcinoma and exposure to hexachlorobenzene:  a case report. Br J Ind Med. 1989;46(2):138–4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ине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ви органохлорни инсектициди се добро апсорбују инхалацијом и оралн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ДТ и његови аналози, затим токсафен, се слабо апсорбују преко ко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; остали се добро апсорбују кроз ко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ви су липофилни, па улазе у масно тки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ви се метаболи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 оксидацијом на микрозомном систему у јетр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рзо се метаболи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 линдан, ендрин, токсафен, диенохлор, па се брзо и елимини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, не стигав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 да се зн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јније депонују у масном ткив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ато је t ½ линдана 21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а t ½ ДДТ-а и хлордекона се мери месецима и година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злу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ју се најви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 преко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еханизам деј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ДТ отвара 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канале на аксон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иклодиени, линдан и токсафен блокирају рецепторе за ГАБА-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ко доводе до хиперексцитабилности ЦНС-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ред овога, сензибил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миокард на катехоламине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о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зроку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аритмиј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лини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 слика акутног трова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ем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рестезије, хиперестезије усана и л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лавобољ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иоклон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гитација, конфуз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вулз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пецифицности клини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е сли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иклодиени су познати по томе да изазивају конвулзије које могу рецидивирати неколико д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им акутне токс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сти, хлордекон, који се екстремно дуго задр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ва у организму, изазива хро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 тровањ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ремо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лабо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псоклонус (невољни покрети о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их јабу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ч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ц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такс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енталне проме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Губитак те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не и пораст ензима јетре у серум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ењ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в. 5% глукоза и витамин Б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контаминација 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 водом и сапу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азепам, а ако нема ефекта, пентобарбитал и анестезија са м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м релаксациј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л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ње пациј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мени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рално холестирамин, 16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дан, подељено у в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 дневних доза; посебно се добро везује за хлорде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иретрини и пиретрои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13:26:38Z</dcterms:created>
  <dc:creator>user1</dc:creator>
  <dc:description/>
  <dc:language>en-US</dc:language>
  <cp:lastModifiedBy>Windows korisnik</cp:lastModifiedBy>
  <dcterms:modified xsi:type="dcterms:W3CDTF">2018-01-15T20:05:27Z</dcterms:modified>
  <cp:revision>74</cp:revision>
  <dc:subject/>
  <dc:title>Slide 1</dc:title>
</cp:coreProperties>
</file>